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E1AC-F1F2-48AC-8995-DB4D6D520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AEFC-CF14-46EA-9468-AACBEBDD5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3B1F-4365-4E3A-AF2F-C8C79B176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C139-3843-49A6-BF5F-BC86E2CC2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8.7 The basis of the membrane potent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6FF3-0995-48A7-981D-19DC09651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F2E9-BD7A-4D50-B04B-76727A135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F7D7-AE25-4248-91C6-7585B2E2E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23DE-E69B-472B-A328-257D93AED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8.10 Graded potentials and an action potential in a neu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6857-1E1E-493F-8933-C1A543841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8165-7C3A-468B-8902-9172F15F3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49D9-2F46-4DB5-A7F0-84C2FC504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077D-421C-4808-A4A4-E34E2780F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CE4B-E28E-44E5-BFAD-3A04343F4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8.11 The role of voltage-gated ion channels in the generation of an action potent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7C8A-66A0-494B-BAEA-243652297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43B6-9662-476C-9CF5-0108E377B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CBB3-845F-487D-AA45-8EDD3F17C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8.12 Conduction of an action potent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28AE-F397-4B7E-B1EA-AACCFA797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511A-4C18-4134-A0B7-A0C2C70F8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331B-94CC-4863-922A-0E66ECECB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5356-C850-4BA9-A527-A3B4F5060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8.13 Schwann cells and the myelin sh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B8BF-06F4-4EAD-9F0B-7B87566FC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ACFA-249F-451E-AD06-C236B245F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B830-7AA2-4339-A056-0DA48ADCF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432E-D244-4A88-85CE-3E3F40350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79BD-4D8A-45A4-BCD9-FC4E1BB52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D342-D62F-4D2F-A880-F060B6A52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8.15 A chemical syn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0BFC-AADE-48F8-800F-A629648E6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FED4-1F9F-4F78-949B-7DDB2D616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8.3 Summary of information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E668-B3E9-4DF4-BFBD-99ED7BD09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E543-C3EF-4AC4-9F67-6FA3F17EA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0C6A-B756-48ED-9522-896E4C744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8.4 Neuron structure and organ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4851-ADF7-4C80-AFFC-65126068D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51CB-73CA-4614-B6B5-C8BE64170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DC6D-6739-4D1D-8451-BD0F25FC2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8D92-E089-4E48-80DB-A55632C83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C067-9098-43DF-B5DA-569F1B869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48.1 Ion Concentrations Inside and Outside of Mammalian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E205-65EF-4FCA-B7A9-036F66E4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F306-3706-4897-889D-A8727752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6CCB-5D26-491E-90DA-856906DC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77C3-2E81-446E-BD30-E87D6FD2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EC23-4162-458E-98A6-51226E7C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BE76-CA14-48F3-BA3A-57C87028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914D-1943-4C54-8548-2BEB2BF5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73D5-E8AD-4F8C-8C14-419617FE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451E-BC8E-4420-8213-C6344BAA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F334-B03F-461B-A90E-B64E0D24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572C-61C9-4E58-9144-8ACC1913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39CC-CB4E-4FDA-B15C-19AA922E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55F8-4819-4F1D-A2A5-30C004A9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FF81-192D-46E9-ACB1-66A10DDC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36C1-3157-442B-A9C8-642AF906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19D2-AA55-4B47-BB38-EAA70E9F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F298-B716-4B00-BE10-5CE97344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0015-F341-4596-A2B9-B4E18C80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254E-CA11-49AF-918C-69000E27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B304-6F8D-483D-90D4-6ABF69E9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9B12-7223-4A66-A274-93FCED42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AE6-DDFD-4D2F-BA7E-10A068C7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D5ED-653C-48CE-AB3C-20191985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C5E-7754-47A0-8061-B8DE4EA4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CFF8-6BCD-4704-A9F4-26B0537A5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fb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0" y="762120"/>
            <a:ext cx="9144000" cy="76176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C:\Documents and Settings\dking\Desktop\55823Reece_Marketing_Cover\55823Reece9e_webdev.jpg"/>
          <p:cNvPicPr/>
          <p:nvPr/>
        </p:nvPicPr>
        <p:blipFill>
          <a:blip r:embed="rId2"/>
          <a:srcRect l="15728" t="38258" r="-249" b="23917"/>
          <a:stretch/>
        </p:blipFill>
        <p:spPr>
          <a:xfrm>
            <a:off x="0" y="1512720"/>
            <a:ext cx="9171000" cy="5040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9"/>
          <p:cNvSpPr/>
          <p:nvPr/>
        </p:nvSpPr>
        <p:spPr>
          <a:xfrm>
            <a:off x="1440" y="0"/>
            <a:ext cx="9145800" cy="7632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AMPBELL BIOLOGY, NINTH E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e B. Reece, Lisa A. Urry, Michael L. Cain, Steven A. Wasserman, Peter V. Minorsky, Robert B. Jack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152280" y="660384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11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705720" y="5562720"/>
            <a:ext cx="2361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ctures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rin Bar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Kathleen Fitzpatr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108840"/>
            <a:ext cx="1911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200400" y="6108840"/>
            <a:ext cx="290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629040" y="6108840"/>
            <a:ext cx="1911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B363-7A67-4BBB-8C6D-3B4C80774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9160" y="53820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07600"/>
            <a:ext cx="8153280" cy="31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ous systems process information in three stages: sensory input, integration, and motor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r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nerve cells that transfer information within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s use two types of signals to communicate: electrical signals (long-distance) and chemical signals (short-dist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98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8" descr="48_07MembranePotential-U"/>
          <p:cNvPicPr/>
          <p:nvPr/>
        </p:nvPicPr>
        <p:blipFill>
          <a:blip r:embed="rId1"/>
          <a:stretch/>
        </p:blipFill>
        <p:spPr>
          <a:xfrm>
            <a:off x="425520" y="136440"/>
            <a:ext cx="8292960" cy="65851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476280" y="706320"/>
            <a:ext cx="4744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1330200" y="952560"/>
            <a:ext cx="4352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800" spc="-1" strike="noStrike" baseline="34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1349280" y="1316160"/>
            <a:ext cx="4352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 baseline="34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1349280" y="1819440"/>
            <a:ext cx="120168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dium-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assiu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1343160" y="3005280"/>
            <a:ext cx="1201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assiu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1355760" y="4075200"/>
            <a:ext cx="9367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diu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2719440" y="2527200"/>
            <a:ext cx="10573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SID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2712960" y="6000840"/>
            <a:ext cx="1057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ID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18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8.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tion potentials are the signals conducted by ax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1912680"/>
            <a:ext cx="8381880" cy="15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membrane potential occur because neurons cont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ted ion chann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open or close in response to stimu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80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3520" y="1366560"/>
            <a:ext cx="807696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depolarization shifts the membrane potential sufficiently, it results in a massive change in membrane voltage called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potentials have a constant magnitude, are all-or-none, and transmit signals over long d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ise because some ion channels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tage-g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pening or closing when the membrane potential passes a certain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85" name="Rectangle 4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42560" y="53820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polariz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01" descr="48_10cGradedPotentials-U"/>
          <p:cNvPicPr/>
          <p:nvPr/>
        </p:nvPicPr>
        <p:blipFill>
          <a:blip r:embed="rId1"/>
          <a:stretch/>
        </p:blipFill>
        <p:spPr>
          <a:xfrm>
            <a:off x="297000" y="212760"/>
            <a:ext cx="8548560" cy="6584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4"/>
          <p:cNvSpPr/>
          <p:nvPr/>
        </p:nvSpPr>
        <p:spPr>
          <a:xfrm>
            <a:off x="4640400" y="347760"/>
            <a:ext cx="38084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trong depolarizing stimul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5"/>
          <p:cNvSpPr/>
          <p:nvPr/>
        </p:nvSpPr>
        <p:spPr>
          <a:xfrm>
            <a:off x="4843440" y="3873600"/>
            <a:ext cx="13874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reshol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6"/>
          <p:cNvSpPr/>
          <p:nvPr/>
        </p:nvSpPr>
        <p:spPr>
          <a:xfrm>
            <a:off x="4844880" y="4827600"/>
            <a:ext cx="1203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sting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8"/>
          <p:cNvSpPr/>
          <p:nvPr/>
        </p:nvSpPr>
        <p:spPr>
          <a:xfrm>
            <a:off x="6257880" y="6215040"/>
            <a:ext cx="1665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ime (mse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9"/>
          <p:cNvSpPr/>
          <p:nvPr/>
        </p:nvSpPr>
        <p:spPr>
          <a:xfrm>
            <a:off x="4194000" y="790560"/>
            <a:ext cx="6001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0"/>
          <p:cNvSpPr/>
          <p:nvPr/>
        </p:nvSpPr>
        <p:spPr>
          <a:xfrm>
            <a:off x="4475160" y="2386080"/>
            <a:ext cx="2779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1"/>
          <p:cNvSpPr/>
          <p:nvPr/>
        </p:nvSpPr>
        <p:spPr>
          <a:xfrm>
            <a:off x="4186080" y="4000680"/>
            <a:ext cx="6001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2"/>
          <p:cNvSpPr/>
          <p:nvPr/>
        </p:nvSpPr>
        <p:spPr>
          <a:xfrm>
            <a:off x="4044960" y="5607000"/>
            <a:ext cx="6001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3"/>
          <p:cNvSpPr/>
          <p:nvPr/>
        </p:nvSpPr>
        <p:spPr>
          <a:xfrm>
            <a:off x="6199200" y="5899320"/>
            <a:ext cx="183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4"/>
          <p:cNvSpPr/>
          <p:nvPr/>
        </p:nvSpPr>
        <p:spPr>
          <a:xfrm>
            <a:off x="5827680" y="5892840"/>
            <a:ext cx="1843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5"/>
          <p:cNvSpPr/>
          <p:nvPr/>
        </p:nvSpPr>
        <p:spPr>
          <a:xfrm>
            <a:off x="6581880" y="5899320"/>
            <a:ext cx="183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6"/>
          <p:cNvSpPr/>
          <p:nvPr/>
        </p:nvSpPr>
        <p:spPr>
          <a:xfrm>
            <a:off x="6945480" y="5892840"/>
            <a:ext cx="1839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7"/>
          <p:cNvSpPr/>
          <p:nvPr/>
        </p:nvSpPr>
        <p:spPr>
          <a:xfrm>
            <a:off x="7337520" y="5897520"/>
            <a:ext cx="1839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8"/>
          <p:cNvSpPr/>
          <p:nvPr/>
        </p:nvSpPr>
        <p:spPr>
          <a:xfrm>
            <a:off x="7713720" y="5892840"/>
            <a:ext cx="1839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9"/>
          <p:cNvSpPr/>
          <p:nvPr/>
        </p:nvSpPr>
        <p:spPr>
          <a:xfrm rot="16200000">
            <a:off x="2351160" y="3125520"/>
            <a:ext cx="32414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embrane potential (mV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0"/>
          <p:cNvSpPr/>
          <p:nvPr/>
        </p:nvSpPr>
        <p:spPr>
          <a:xfrm rot="16200000">
            <a:off x="6361920" y="189720"/>
            <a:ext cx="192240" cy="1114560"/>
          </a:xfrm>
          <a:custGeom>
            <a:avLst/>
            <a:gdLst>
              <a:gd name="textAreaLeft" fmla="*/ 0 w 192240"/>
              <a:gd name="textAreaRight" fmla="*/ 69480 w 192240"/>
              <a:gd name="textAreaTop" fmla="*/ 28800 h 1114560"/>
              <a:gd name="textAreaBottom" fmla="*/ 1085760 h 11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4"/>
          <p:cNvSpPr/>
          <p:nvPr/>
        </p:nvSpPr>
        <p:spPr>
          <a:xfrm>
            <a:off x="8064360" y="5896080"/>
            <a:ext cx="184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95"/>
          <p:cNvGrpSpPr/>
          <p:nvPr/>
        </p:nvGrpSpPr>
        <p:grpSpPr>
          <a:xfrm>
            <a:off x="341280" y="230040"/>
            <a:ext cx="3924360" cy="1192320"/>
            <a:chOff x="341280" y="230040"/>
            <a:chExt cx="3924360" cy="1192320"/>
          </a:xfrm>
        </p:grpSpPr>
        <p:sp>
          <p:nvSpPr>
            <p:cNvPr id="208" name="Text Box 96"/>
            <p:cNvSpPr/>
            <p:nvPr/>
          </p:nvSpPr>
          <p:spPr>
            <a:xfrm>
              <a:off x="341280" y="233280"/>
              <a:ext cx="347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7"/>
            <p:cNvSpPr/>
            <p:nvPr/>
          </p:nvSpPr>
          <p:spPr>
            <a:xfrm>
              <a:off x="725400" y="230040"/>
              <a:ext cx="3540240" cy="11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Action potential</a:t>
              </a:r>
              <a:br>
                <a:rPr sz="2100"/>
              </a:b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triggered by a</a:t>
              </a:r>
              <a:br>
                <a:rPr sz="2100"/>
              </a:b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depolarization that</a:t>
              </a:r>
              <a:br>
                <a:rPr sz="2100"/>
              </a:b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reaches the threshol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Line 98"/>
          <p:cNvSpPr/>
          <p:nvPr/>
        </p:nvSpPr>
        <p:spPr>
          <a:xfrm>
            <a:off x="5819760" y="4137120"/>
            <a:ext cx="317520" cy="17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9"/>
          <p:cNvSpPr/>
          <p:nvPr/>
        </p:nvSpPr>
        <p:spPr>
          <a:xfrm flipH="1">
            <a:off x="7223040" y="1108080"/>
            <a:ext cx="13176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7391520" y="973080"/>
            <a:ext cx="12031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ction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280" y="18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8.10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7080" y="792000"/>
            <a:ext cx="87883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neration of Action Potenti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897200"/>
            <a:ext cx="8229600" cy="26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tion potential can be considered as a series of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resting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12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voltage-gated sodium (N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channels are closed; most of the voltage-gated potassium (K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channels are also clo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217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3160" y="1356840"/>
            <a:ext cx="830556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action potential is gen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06440"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ltage-gated N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annels open first and N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lows into the c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06440"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ising pha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the threshold is crossed, and the membrane potential increa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06440"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alling pha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voltage-gated N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annels become inactivated; voltage-gated K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annels open, and K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lows out of the c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222" name="Rectangle 4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09120" y="990720"/>
            <a:ext cx="8077320" cy="18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lvl="1" marL="7599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. During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undersho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membrane permeability to K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t first higher than at rest, then voltage-gated K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annels close and resting potential is resto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277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considered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yperpolariz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fractory perio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an action potential, a second action potential cannot be initiated (due to hyperpolariz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227" name="Rectangle 4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9" descr="48_11_ActionPotential_5-U"/>
          <p:cNvPicPr/>
          <p:nvPr/>
        </p:nvPicPr>
        <p:blipFill>
          <a:blip r:embed="rId1"/>
          <a:stretch/>
        </p:blipFill>
        <p:spPr>
          <a:xfrm>
            <a:off x="297000" y="136440"/>
            <a:ext cx="8548560" cy="65851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407880" y="4568760"/>
            <a:ext cx="16527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SIDE OF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414360" y="5780160"/>
            <a:ext cx="14288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IDE OF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825480" y="6018120"/>
            <a:ext cx="1427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activation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709720" y="4581360"/>
            <a:ext cx="72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dium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3589200" y="4587840"/>
            <a:ext cx="949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tassium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4991040" y="2220840"/>
            <a:ext cx="725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4964040" y="3144960"/>
            <a:ext cx="89712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5149800" y="4151160"/>
            <a:ext cx="14652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ting pot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4937040" y="4403880"/>
            <a:ext cx="435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3"/>
          <p:cNvSpPr/>
          <p:nvPr/>
        </p:nvSpPr>
        <p:spPr>
          <a:xfrm rot="16200000">
            <a:off x="3548880" y="3053520"/>
            <a:ext cx="17049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brane potenti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4565520" y="2023920"/>
            <a:ext cx="322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5"/>
          <p:cNvSpPr/>
          <p:nvPr/>
        </p:nvSpPr>
        <p:spPr>
          <a:xfrm>
            <a:off x="4457880" y="4273560"/>
            <a:ext cx="4158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4556160" y="3551400"/>
            <a:ext cx="323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7"/>
          <p:cNvSpPr/>
          <p:nvPr/>
        </p:nvSpPr>
        <p:spPr>
          <a:xfrm>
            <a:off x="4748040" y="2805120"/>
            <a:ext cx="152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4651200" y="615960"/>
            <a:ext cx="322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400" spc="-1" strike="noStrike" baseline="32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4659480" y="861840"/>
            <a:ext cx="322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400" spc="-1" strike="noStrike" baseline="32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0"/>
          <p:cNvSpPr/>
          <p:nvPr/>
        </p:nvSpPr>
        <p:spPr>
          <a:xfrm>
            <a:off x="4419720" y="372960"/>
            <a:ext cx="322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1"/>
          <p:cNvSpPr/>
          <p:nvPr/>
        </p:nvSpPr>
        <p:spPr>
          <a:xfrm>
            <a:off x="5343480" y="3346560"/>
            <a:ext cx="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5727600" y="3584520"/>
            <a:ext cx="39960" cy="238320"/>
          </a:xfrm>
          <a:prstGeom prst="line">
            <a:avLst/>
          </a:prstGeom>
          <a:ln w="12600">
            <a:solidFill>
              <a:srgbClr val="0072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3"/>
          <p:cNvSpPr/>
          <p:nvPr/>
        </p:nvSpPr>
        <p:spPr>
          <a:xfrm>
            <a:off x="4921200" y="4021200"/>
            <a:ext cx="198360" cy="18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>
            <a:off x="5397480" y="4497480"/>
            <a:ext cx="2235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5"/>
          <p:cNvSpPr/>
          <p:nvPr/>
        </p:nvSpPr>
        <p:spPr>
          <a:xfrm flipH="1">
            <a:off x="2606400" y="4960800"/>
            <a:ext cx="29052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6"/>
          <p:cNvSpPr/>
          <p:nvPr/>
        </p:nvSpPr>
        <p:spPr>
          <a:xfrm flipH="1">
            <a:off x="3465360" y="4960800"/>
            <a:ext cx="31752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7"/>
          <p:cNvSpPr/>
          <p:nvPr/>
        </p:nvSpPr>
        <p:spPr>
          <a:xfrm flipH="1">
            <a:off x="2261880" y="6019920"/>
            <a:ext cx="23796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30"/>
          <p:cNvGrpSpPr/>
          <p:nvPr/>
        </p:nvGrpSpPr>
        <p:grpSpPr>
          <a:xfrm>
            <a:off x="754200" y="4100400"/>
            <a:ext cx="210960" cy="212760"/>
            <a:chOff x="754200" y="4100400"/>
            <a:chExt cx="210960" cy="212760"/>
          </a:xfrm>
        </p:grpSpPr>
        <p:sp>
          <p:nvSpPr>
            <p:cNvPr id="256" name="Oval 28"/>
            <p:cNvSpPr/>
            <p:nvPr/>
          </p:nvSpPr>
          <p:spPr>
            <a:xfrm>
              <a:off x="754200" y="4100400"/>
              <a:ext cx="210960" cy="2127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811080" y="4113000"/>
              <a:ext cx="1440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1"/>
          <p:cNvGrpSpPr/>
          <p:nvPr/>
        </p:nvGrpSpPr>
        <p:grpSpPr>
          <a:xfrm>
            <a:off x="338040" y="6303960"/>
            <a:ext cx="211320" cy="212760"/>
            <a:chOff x="338040" y="6303960"/>
            <a:chExt cx="211320" cy="212760"/>
          </a:xfrm>
        </p:grpSpPr>
        <p:sp>
          <p:nvSpPr>
            <p:cNvPr id="259" name="Oval 32"/>
            <p:cNvSpPr/>
            <p:nvPr/>
          </p:nvSpPr>
          <p:spPr>
            <a:xfrm>
              <a:off x="338040" y="6303960"/>
              <a:ext cx="211320" cy="2127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3"/>
            <p:cNvSpPr/>
            <p:nvPr/>
          </p:nvSpPr>
          <p:spPr>
            <a:xfrm>
              <a:off x="395280" y="6316560"/>
              <a:ext cx="1443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4"/>
          <p:cNvGrpSpPr/>
          <p:nvPr/>
        </p:nvGrpSpPr>
        <p:grpSpPr>
          <a:xfrm>
            <a:off x="722160" y="2016000"/>
            <a:ext cx="211320" cy="212760"/>
            <a:chOff x="722160" y="2016000"/>
            <a:chExt cx="211320" cy="212760"/>
          </a:xfrm>
        </p:grpSpPr>
        <p:sp>
          <p:nvSpPr>
            <p:cNvPr id="262" name="Oval 35"/>
            <p:cNvSpPr/>
            <p:nvPr/>
          </p:nvSpPr>
          <p:spPr>
            <a:xfrm>
              <a:off x="722160" y="2016000"/>
              <a:ext cx="211320" cy="2127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6"/>
            <p:cNvSpPr/>
            <p:nvPr/>
          </p:nvSpPr>
          <p:spPr>
            <a:xfrm>
              <a:off x="779400" y="2028600"/>
              <a:ext cx="1443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7"/>
          <p:cNvGrpSpPr/>
          <p:nvPr/>
        </p:nvGrpSpPr>
        <p:grpSpPr>
          <a:xfrm>
            <a:off x="5391000" y="1819440"/>
            <a:ext cx="211320" cy="212400"/>
            <a:chOff x="5391000" y="1819440"/>
            <a:chExt cx="211320" cy="212400"/>
          </a:xfrm>
        </p:grpSpPr>
        <p:sp>
          <p:nvSpPr>
            <p:cNvPr id="265" name="Oval 38"/>
            <p:cNvSpPr/>
            <p:nvPr/>
          </p:nvSpPr>
          <p:spPr>
            <a:xfrm>
              <a:off x="5391000" y="1819440"/>
              <a:ext cx="211320" cy="21240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9"/>
            <p:cNvSpPr/>
            <p:nvPr/>
          </p:nvSpPr>
          <p:spPr>
            <a:xfrm>
              <a:off x="5448240" y="1831680"/>
              <a:ext cx="14436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40"/>
          <p:cNvGrpSpPr/>
          <p:nvPr/>
        </p:nvGrpSpPr>
        <p:grpSpPr>
          <a:xfrm>
            <a:off x="5418000" y="6303960"/>
            <a:ext cx="211320" cy="212760"/>
            <a:chOff x="5418000" y="6303960"/>
            <a:chExt cx="211320" cy="212760"/>
          </a:xfrm>
        </p:grpSpPr>
        <p:sp>
          <p:nvSpPr>
            <p:cNvPr id="268" name="Oval 41"/>
            <p:cNvSpPr/>
            <p:nvPr/>
          </p:nvSpPr>
          <p:spPr>
            <a:xfrm>
              <a:off x="5418000" y="6303960"/>
              <a:ext cx="211320" cy="2127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42"/>
            <p:cNvSpPr/>
            <p:nvPr/>
          </p:nvSpPr>
          <p:spPr>
            <a:xfrm>
              <a:off x="5475240" y="6316560"/>
              <a:ext cx="1443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43"/>
          <p:cNvGrpSpPr/>
          <p:nvPr/>
        </p:nvGrpSpPr>
        <p:grpSpPr>
          <a:xfrm>
            <a:off x="5178600" y="3763800"/>
            <a:ext cx="210960" cy="212760"/>
            <a:chOff x="5178600" y="3763800"/>
            <a:chExt cx="210960" cy="212760"/>
          </a:xfrm>
        </p:grpSpPr>
        <p:sp>
          <p:nvSpPr>
            <p:cNvPr id="271" name="Oval 44"/>
            <p:cNvSpPr/>
            <p:nvPr/>
          </p:nvSpPr>
          <p:spPr>
            <a:xfrm>
              <a:off x="5178600" y="3763800"/>
              <a:ext cx="210960" cy="2127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5"/>
            <p:cNvSpPr/>
            <p:nvPr/>
          </p:nvSpPr>
          <p:spPr>
            <a:xfrm>
              <a:off x="5235480" y="3776400"/>
              <a:ext cx="1440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46"/>
          <p:cNvGrpSpPr/>
          <p:nvPr/>
        </p:nvGrpSpPr>
        <p:grpSpPr>
          <a:xfrm>
            <a:off x="5589720" y="3379680"/>
            <a:ext cx="210960" cy="212760"/>
            <a:chOff x="5589720" y="3379680"/>
            <a:chExt cx="210960" cy="212760"/>
          </a:xfrm>
        </p:grpSpPr>
        <p:sp>
          <p:nvSpPr>
            <p:cNvPr id="274" name="Oval 47"/>
            <p:cNvSpPr/>
            <p:nvPr/>
          </p:nvSpPr>
          <p:spPr>
            <a:xfrm>
              <a:off x="5589720" y="3379680"/>
              <a:ext cx="210960" cy="2127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48"/>
            <p:cNvSpPr/>
            <p:nvPr/>
          </p:nvSpPr>
          <p:spPr>
            <a:xfrm>
              <a:off x="5646600" y="3392280"/>
              <a:ext cx="1440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49"/>
          <p:cNvGrpSpPr/>
          <p:nvPr/>
        </p:nvGrpSpPr>
        <p:grpSpPr>
          <a:xfrm>
            <a:off x="5775480" y="2692440"/>
            <a:ext cx="210960" cy="212760"/>
            <a:chOff x="5775480" y="2692440"/>
            <a:chExt cx="210960" cy="212760"/>
          </a:xfrm>
        </p:grpSpPr>
        <p:sp>
          <p:nvSpPr>
            <p:cNvPr id="277" name="Oval 50"/>
            <p:cNvSpPr/>
            <p:nvPr/>
          </p:nvSpPr>
          <p:spPr>
            <a:xfrm>
              <a:off x="5775480" y="2692440"/>
              <a:ext cx="210960" cy="2127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5832360" y="2705040"/>
              <a:ext cx="1440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2"/>
          <p:cNvGrpSpPr/>
          <p:nvPr/>
        </p:nvGrpSpPr>
        <p:grpSpPr>
          <a:xfrm>
            <a:off x="6356520" y="3168720"/>
            <a:ext cx="210960" cy="212760"/>
            <a:chOff x="6356520" y="3168720"/>
            <a:chExt cx="210960" cy="212760"/>
          </a:xfrm>
        </p:grpSpPr>
        <p:sp>
          <p:nvSpPr>
            <p:cNvPr id="280" name="Oval 53"/>
            <p:cNvSpPr/>
            <p:nvPr/>
          </p:nvSpPr>
          <p:spPr>
            <a:xfrm>
              <a:off x="6356520" y="3168720"/>
              <a:ext cx="210960" cy="2127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54"/>
            <p:cNvSpPr/>
            <p:nvPr/>
          </p:nvSpPr>
          <p:spPr>
            <a:xfrm>
              <a:off x="6413400" y="3181320"/>
              <a:ext cx="1440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5"/>
          <p:cNvGrpSpPr/>
          <p:nvPr/>
        </p:nvGrpSpPr>
        <p:grpSpPr>
          <a:xfrm>
            <a:off x="6421320" y="3830760"/>
            <a:ext cx="211320" cy="212760"/>
            <a:chOff x="6421320" y="3830760"/>
            <a:chExt cx="211320" cy="212760"/>
          </a:xfrm>
        </p:grpSpPr>
        <p:sp>
          <p:nvSpPr>
            <p:cNvPr id="283" name="Oval 56"/>
            <p:cNvSpPr/>
            <p:nvPr/>
          </p:nvSpPr>
          <p:spPr>
            <a:xfrm>
              <a:off x="6421320" y="3830760"/>
              <a:ext cx="211320" cy="2127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57"/>
            <p:cNvSpPr/>
            <p:nvPr/>
          </p:nvSpPr>
          <p:spPr>
            <a:xfrm>
              <a:off x="6478560" y="3843360"/>
              <a:ext cx="1443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8"/>
          <p:cNvGrpSpPr/>
          <p:nvPr/>
        </p:nvGrpSpPr>
        <p:grpSpPr>
          <a:xfrm>
            <a:off x="7070760" y="3763800"/>
            <a:ext cx="210960" cy="212760"/>
            <a:chOff x="7070760" y="3763800"/>
            <a:chExt cx="210960" cy="212760"/>
          </a:xfrm>
        </p:grpSpPr>
        <p:sp>
          <p:nvSpPr>
            <p:cNvPr id="286" name="Oval 59"/>
            <p:cNvSpPr/>
            <p:nvPr/>
          </p:nvSpPr>
          <p:spPr>
            <a:xfrm>
              <a:off x="7070760" y="3763800"/>
              <a:ext cx="210960" cy="2127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60"/>
            <p:cNvSpPr/>
            <p:nvPr/>
          </p:nvSpPr>
          <p:spPr>
            <a:xfrm>
              <a:off x="7127640" y="3776400"/>
              <a:ext cx="1440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61"/>
          <p:cNvSpPr/>
          <p:nvPr/>
        </p:nvSpPr>
        <p:spPr>
          <a:xfrm>
            <a:off x="587520" y="6297480"/>
            <a:ext cx="1215720" cy="225720"/>
          </a:xfrm>
          <a:prstGeom prst="rect">
            <a:avLst/>
          </a:prstGeom>
          <a:solidFill>
            <a:srgbClr val="ef1a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ting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2"/>
          <p:cNvSpPr/>
          <p:nvPr/>
        </p:nvSpPr>
        <p:spPr>
          <a:xfrm>
            <a:off x="5659560" y="6303960"/>
            <a:ext cx="1136520" cy="225360"/>
          </a:xfrm>
          <a:prstGeom prst="rect">
            <a:avLst/>
          </a:prstGeom>
          <a:solidFill>
            <a:srgbClr val="8a1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dersh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3"/>
          <p:cNvSpPr/>
          <p:nvPr/>
        </p:nvSpPr>
        <p:spPr>
          <a:xfrm>
            <a:off x="990720" y="4094280"/>
            <a:ext cx="1388880" cy="237960"/>
          </a:xfrm>
          <a:prstGeom prst="rect">
            <a:avLst/>
          </a:prstGeom>
          <a:solidFill>
            <a:srgbClr val="01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olar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4"/>
          <p:cNvSpPr/>
          <p:nvPr/>
        </p:nvSpPr>
        <p:spPr>
          <a:xfrm>
            <a:off x="992160" y="2017800"/>
            <a:ext cx="3067200" cy="239760"/>
          </a:xfrm>
          <a:prstGeom prst="rect">
            <a:avLst/>
          </a:prstGeom>
          <a:solidFill>
            <a:srgbClr val="007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ising phase of the action pot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5"/>
          <p:cNvSpPr/>
          <p:nvPr/>
        </p:nvSpPr>
        <p:spPr>
          <a:xfrm>
            <a:off x="5641920" y="1812960"/>
            <a:ext cx="3146400" cy="239760"/>
          </a:xfrm>
          <a:prstGeom prst="rect">
            <a:avLst/>
          </a:prstGeom>
          <a:solidFill>
            <a:srgbClr val="01a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lling phase of the action pot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68"/>
          <p:cNvSpPr/>
          <p:nvPr/>
        </p:nvSpPr>
        <p:spPr>
          <a:xfrm>
            <a:off x="5581800" y="2301840"/>
            <a:ext cx="56988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18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8.11-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0320" y="53820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duction of Action Potenti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site where the action potential is generated, usually the axon hillock, an electrical current depolarizes the upstream region of the axon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potentials travel in only one direction: toward the synaptic ter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ctivated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nels behind the zone of depolarization prevent the action potential from traveling back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298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280" y="18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8.12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28" descr="48_12ActionPotCondxn_3-U"/>
          <p:cNvPicPr/>
          <p:nvPr/>
        </p:nvPicPr>
        <p:blipFill>
          <a:blip r:embed="rId1"/>
          <a:stretch/>
        </p:blipFill>
        <p:spPr>
          <a:xfrm>
            <a:off x="1919160" y="136440"/>
            <a:ext cx="5303880" cy="65851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3"/>
          <p:cNvSpPr/>
          <p:nvPr/>
        </p:nvSpPr>
        <p:spPr>
          <a:xfrm>
            <a:off x="2924280" y="3306600"/>
            <a:ext cx="2048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400" spc="-1" strike="noStrike" baseline="32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2917800" y="4583160"/>
            <a:ext cx="2048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400" spc="-1" strike="noStrike" baseline="32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3989520" y="6396120"/>
            <a:ext cx="2044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400" spc="-1" strike="noStrike" baseline="32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3989520" y="5126040"/>
            <a:ext cx="2044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400" spc="-1" strike="noStrike" baseline="32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5006880" y="5748480"/>
            <a:ext cx="31140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400" spc="-1" strike="noStrike" baseline="32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3940200" y="3941640"/>
            <a:ext cx="3110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400" spc="-1" strike="noStrike" baseline="32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2790720" y="2208240"/>
            <a:ext cx="3114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400" spc="-1" strike="noStrike" baseline="32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2513160" y="1257480"/>
            <a:ext cx="9856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4967280" y="642960"/>
            <a:ext cx="61596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6039000" y="1171440"/>
            <a:ext cx="11970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sma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6197760" y="2151000"/>
            <a:ext cx="88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3630600" y="2957400"/>
            <a:ext cx="9856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4913280" y="4770360"/>
            <a:ext cx="9860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19"/>
          <p:cNvGrpSpPr/>
          <p:nvPr/>
        </p:nvGrpSpPr>
        <p:grpSpPr>
          <a:xfrm>
            <a:off x="1984320" y="3638520"/>
            <a:ext cx="271440" cy="277920"/>
            <a:chOff x="1984320" y="3638520"/>
            <a:chExt cx="271440" cy="277920"/>
          </a:xfrm>
        </p:grpSpPr>
        <p:sp>
          <p:nvSpPr>
            <p:cNvPr id="317" name="Oval 17"/>
            <p:cNvSpPr/>
            <p:nvPr/>
          </p:nvSpPr>
          <p:spPr>
            <a:xfrm>
              <a:off x="1984320" y="3638520"/>
              <a:ext cx="263520" cy="2649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8"/>
            <p:cNvSpPr/>
            <p:nvPr/>
          </p:nvSpPr>
          <p:spPr>
            <a:xfrm>
              <a:off x="2050920" y="3654360"/>
              <a:ext cx="2048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0"/>
          <p:cNvGrpSpPr/>
          <p:nvPr/>
        </p:nvGrpSpPr>
        <p:grpSpPr>
          <a:xfrm>
            <a:off x="1978200" y="1900080"/>
            <a:ext cx="271440" cy="277920"/>
            <a:chOff x="1978200" y="1900080"/>
            <a:chExt cx="271440" cy="277920"/>
          </a:xfrm>
        </p:grpSpPr>
        <p:sp>
          <p:nvSpPr>
            <p:cNvPr id="320" name="Oval 21"/>
            <p:cNvSpPr/>
            <p:nvPr/>
          </p:nvSpPr>
          <p:spPr>
            <a:xfrm>
              <a:off x="1978200" y="1900080"/>
              <a:ext cx="263520" cy="2649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2"/>
            <p:cNvSpPr/>
            <p:nvPr/>
          </p:nvSpPr>
          <p:spPr>
            <a:xfrm>
              <a:off x="2044800" y="1915920"/>
              <a:ext cx="2048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3"/>
          <p:cNvGrpSpPr/>
          <p:nvPr/>
        </p:nvGrpSpPr>
        <p:grpSpPr>
          <a:xfrm>
            <a:off x="1978200" y="5457960"/>
            <a:ext cx="271440" cy="277200"/>
            <a:chOff x="1978200" y="5457960"/>
            <a:chExt cx="271440" cy="277200"/>
          </a:xfrm>
        </p:grpSpPr>
        <p:sp>
          <p:nvSpPr>
            <p:cNvPr id="323" name="Oval 24"/>
            <p:cNvSpPr/>
            <p:nvPr/>
          </p:nvSpPr>
          <p:spPr>
            <a:xfrm>
              <a:off x="1978200" y="5457960"/>
              <a:ext cx="263520" cy="26460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5"/>
            <p:cNvSpPr/>
            <p:nvPr/>
          </p:nvSpPr>
          <p:spPr>
            <a:xfrm>
              <a:off x="2044800" y="5473440"/>
              <a:ext cx="204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Line 26"/>
          <p:cNvSpPr/>
          <p:nvPr/>
        </p:nvSpPr>
        <p:spPr>
          <a:xfrm flipH="1">
            <a:off x="5013000" y="846000"/>
            <a:ext cx="10620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7"/>
          <p:cNvSpPr/>
          <p:nvPr/>
        </p:nvSpPr>
        <p:spPr>
          <a:xfrm>
            <a:off x="6692760" y="16398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520" y="140508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s detect external stimuli and internal conditions and transmit information alo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ory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y information is sent to the brain or ganglia, whe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ur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th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 output leaves the brain or ganglia vi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tor neu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trigger muscle or glan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03" name="Rectangle 4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9080" y="5335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volutionary Adaptation of Axon Stru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45760" y="1365120"/>
            <a:ext cx="814068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eed of an action potential increases with the axon’s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vertebrates, axons are insulated by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elin she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causes an action potential’s speed to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330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55" descr="48_13_SchwannCells-U"/>
          <p:cNvPicPr/>
          <p:nvPr/>
        </p:nvPicPr>
        <p:blipFill>
          <a:blip r:embed="rId1"/>
          <a:stretch/>
        </p:blipFill>
        <p:spPr>
          <a:xfrm>
            <a:off x="601560" y="212760"/>
            <a:ext cx="7939080" cy="658476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11"/>
          <p:cNvSpPr/>
          <p:nvPr/>
        </p:nvSpPr>
        <p:spPr>
          <a:xfrm>
            <a:off x="871560" y="2697120"/>
            <a:ext cx="6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9"/>
          <p:cNvSpPr/>
          <p:nvPr/>
        </p:nvSpPr>
        <p:spPr>
          <a:xfrm>
            <a:off x="1871640" y="2809800"/>
            <a:ext cx="15130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elin sh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0"/>
          <p:cNvSpPr/>
          <p:nvPr/>
        </p:nvSpPr>
        <p:spPr>
          <a:xfrm>
            <a:off x="3279600" y="1665360"/>
            <a:ext cx="10098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wan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1"/>
          <p:cNvSpPr/>
          <p:nvPr/>
        </p:nvSpPr>
        <p:spPr>
          <a:xfrm>
            <a:off x="3808440" y="2592360"/>
            <a:ext cx="1076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es of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v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2"/>
          <p:cNvSpPr/>
          <p:nvPr/>
        </p:nvSpPr>
        <p:spPr>
          <a:xfrm>
            <a:off x="6084720" y="328680"/>
            <a:ext cx="1791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e of Ranv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3"/>
          <p:cNvSpPr/>
          <p:nvPr/>
        </p:nvSpPr>
        <p:spPr>
          <a:xfrm>
            <a:off x="6640560" y="712800"/>
            <a:ext cx="1843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yers of mye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4"/>
          <p:cNvSpPr/>
          <p:nvPr/>
        </p:nvSpPr>
        <p:spPr>
          <a:xfrm>
            <a:off x="7896240" y="1084320"/>
            <a:ext cx="600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5"/>
          <p:cNvSpPr/>
          <p:nvPr/>
        </p:nvSpPr>
        <p:spPr>
          <a:xfrm>
            <a:off x="5792760" y="2049480"/>
            <a:ext cx="1036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wan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6"/>
          <p:cNvSpPr/>
          <p:nvPr/>
        </p:nvSpPr>
        <p:spPr>
          <a:xfrm>
            <a:off x="5792760" y="2592360"/>
            <a:ext cx="14986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us of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wann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7"/>
          <p:cNvSpPr/>
          <p:nvPr/>
        </p:nvSpPr>
        <p:spPr>
          <a:xfrm>
            <a:off x="7764480" y="6361200"/>
            <a:ext cx="75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8"/>
          <p:cNvSpPr/>
          <p:nvPr/>
        </p:nvSpPr>
        <p:spPr>
          <a:xfrm flipH="1">
            <a:off x="1455840" y="2417760"/>
            <a:ext cx="2635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9"/>
          <p:cNvSpPr/>
          <p:nvPr/>
        </p:nvSpPr>
        <p:spPr>
          <a:xfrm>
            <a:off x="2989440" y="2589120"/>
            <a:ext cx="3960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0"/>
          <p:cNvSpPr/>
          <p:nvPr/>
        </p:nvSpPr>
        <p:spPr>
          <a:xfrm flipH="1">
            <a:off x="3028680" y="2523960"/>
            <a:ext cx="25236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1"/>
          <p:cNvSpPr/>
          <p:nvPr/>
        </p:nvSpPr>
        <p:spPr>
          <a:xfrm>
            <a:off x="3795840" y="2351160"/>
            <a:ext cx="31752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2"/>
          <p:cNvSpPr/>
          <p:nvPr/>
        </p:nvSpPr>
        <p:spPr>
          <a:xfrm flipH="1">
            <a:off x="4113360" y="2259000"/>
            <a:ext cx="39600" cy="34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3"/>
          <p:cNvSpPr/>
          <p:nvPr/>
        </p:nvSpPr>
        <p:spPr>
          <a:xfrm flipH="1">
            <a:off x="6310080" y="552600"/>
            <a:ext cx="158760" cy="79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4"/>
          <p:cNvSpPr/>
          <p:nvPr/>
        </p:nvSpPr>
        <p:spPr>
          <a:xfrm>
            <a:off x="7540560" y="961920"/>
            <a:ext cx="171360" cy="76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5"/>
          <p:cNvSpPr/>
          <p:nvPr/>
        </p:nvSpPr>
        <p:spPr>
          <a:xfrm>
            <a:off x="7540560" y="961920"/>
            <a:ext cx="382680" cy="82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46"/>
          <p:cNvSpPr/>
          <p:nvPr/>
        </p:nvSpPr>
        <p:spPr>
          <a:xfrm>
            <a:off x="8161200" y="1319040"/>
            <a:ext cx="0" cy="75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47"/>
          <p:cNvSpPr/>
          <p:nvPr/>
        </p:nvSpPr>
        <p:spPr>
          <a:xfrm flipV="1">
            <a:off x="6838920" y="2072880"/>
            <a:ext cx="64764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8"/>
          <p:cNvSpPr/>
          <p:nvPr/>
        </p:nvSpPr>
        <p:spPr>
          <a:xfrm flipV="1">
            <a:off x="7037280" y="2457000"/>
            <a:ext cx="59544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9"/>
          <p:cNvSpPr/>
          <p:nvPr/>
        </p:nvSpPr>
        <p:spPr>
          <a:xfrm>
            <a:off x="7843680" y="6227640"/>
            <a:ext cx="0" cy="10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0"/>
          <p:cNvSpPr/>
          <p:nvPr/>
        </p:nvSpPr>
        <p:spPr>
          <a:xfrm>
            <a:off x="8386920" y="6227640"/>
            <a:ext cx="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1"/>
          <p:cNvSpPr/>
          <p:nvPr/>
        </p:nvSpPr>
        <p:spPr>
          <a:xfrm>
            <a:off x="7839000" y="6275520"/>
            <a:ext cx="5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4"/>
          <p:cNvSpPr/>
          <p:nvPr/>
        </p:nvSpPr>
        <p:spPr>
          <a:xfrm rot="15340200">
            <a:off x="3499560" y="2063880"/>
            <a:ext cx="147960" cy="276120"/>
          </a:xfrm>
          <a:custGeom>
            <a:avLst/>
            <a:gdLst>
              <a:gd name="textAreaLeft" fmla="*/ 0 w 147960"/>
              <a:gd name="textAreaRight" fmla="*/ 53280 w 147960"/>
              <a:gd name="textAreaTop" fmla="*/ 7200 h 276120"/>
              <a:gd name="textAreaBottom" fmla="*/ 26892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280" y="18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8.1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0320" y="5968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urons communicate with other cells at synapses via neurotransmitt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520" y="1911240"/>
            <a:ext cx="8153280" cy="35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ore than 100 neurotransmitters, belonging to five groups: acetylcholine, biogenic amines, amino acids, neuropeptides, and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ngle neurotransmitter may have more than a dozen different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363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533520" y="14047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ynaptic neuron synthesizes and packages the neurotransmitter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aptic vesic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in the synaptic 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ion potential causes the release of the neurotransmit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urotransmitter diffuses acros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aptic clef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s received by the postsynap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5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368" name="Rectangle 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533520" y="1383840"/>
            <a:ext cx="7772400" cy="22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lease, the neurotransm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72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diffuse out of the synaptic cle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72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be taken up by surrounding cell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72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be degraded by enzy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373" name="Rectangle 4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9160" y="5335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neration of Postsynaptic Potenti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160" y="1366920"/>
            <a:ext cx="8305560" cy="25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synaptic transmission involves binding of neurotransmitter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gand-gated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ne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ostsynap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transmitter binding causes ion channels to open, generating a postsynaptic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379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8" descr="48_15ChemicalSynapse-U"/>
          <p:cNvPicPr/>
          <p:nvPr/>
        </p:nvPicPr>
        <p:blipFill>
          <a:blip r:embed="rId1"/>
          <a:stretch/>
        </p:blipFill>
        <p:spPr>
          <a:xfrm>
            <a:off x="297000" y="441360"/>
            <a:ext cx="8548560" cy="597528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5"/>
          <p:cNvSpPr/>
          <p:nvPr/>
        </p:nvSpPr>
        <p:spPr>
          <a:xfrm>
            <a:off x="682560" y="453960"/>
            <a:ext cx="134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ynapt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878280" y="579600"/>
            <a:ext cx="1936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synaptic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1244520" y="1717560"/>
            <a:ext cx="5875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371520" y="3728880"/>
            <a:ext cx="13413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ynapt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3182760" y="1909800"/>
            <a:ext cx="18702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aptic vesic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urotransm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5259240" y="2160720"/>
            <a:ext cx="1460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synapt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3"/>
          <p:cNvSpPr/>
          <p:nvPr/>
        </p:nvSpPr>
        <p:spPr>
          <a:xfrm>
            <a:off x="4411800" y="2771640"/>
            <a:ext cx="9712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apt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4"/>
          <p:cNvSpPr/>
          <p:nvPr/>
        </p:nvSpPr>
        <p:spPr>
          <a:xfrm>
            <a:off x="2138400" y="5656320"/>
            <a:ext cx="1552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tage-gat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4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5"/>
          <p:cNvSpPr/>
          <p:nvPr/>
        </p:nvSpPr>
        <p:spPr>
          <a:xfrm>
            <a:off x="4089240" y="5664240"/>
            <a:ext cx="1552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gand-gat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330280" y="4948200"/>
            <a:ext cx="5083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8250120" y="5907240"/>
            <a:ext cx="414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800" spc="-1" strike="noStrike" baseline="34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7080120" y="4486320"/>
            <a:ext cx="295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 baseline="34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1"/>
          <p:cNvGrpSpPr/>
          <p:nvPr/>
        </p:nvGrpSpPr>
        <p:grpSpPr>
          <a:xfrm>
            <a:off x="2855880" y="5038560"/>
            <a:ext cx="297000" cy="260280"/>
            <a:chOff x="2855880" y="5038560"/>
            <a:chExt cx="297000" cy="260280"/>
          </a:xfrm>
        </p:grpSpPr>
        <p:sp>
          <p:nvSpPr>
            <p:cNvPr id="396" name="Oval 30"/>
            <p:cNvSpPr/>
            <p:nvPr/>
          </p:nvSpPr>
          <p:spPr>
            <a:xfrm>
              <a:off x="2855880" y="5038560"/>
              <a:ext cx="252360" cy="2505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29"/>
            <p:cNvSpPr/>
            <p:nvPr/>
          </p:nvSpPr>
          <p:spPr>
            <a:xfrm>
              <a:off x="2911320" y="5038560"/>
              <a:ext cx="2415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32"/>
          <p:cNvGrpSpPr/>
          <p:nvPr/>
        </p:nvGrpSpPr>
        <p:grpSpPr>
          <a:xfrm>
            <a:off x="785880" y="1976400"/>
            <a:ext cx="296280" cy="260280"/>
            <a:chOff x="785880" y="1976400"/>
            <a:chExt cx="296280" cy="260280"/>
          </a:xfrm>
        </p:grpSpPr>
        <p:sp>
          <p:nvSpPr>
            <p:cNvPr id="399" name="Oval 33"/>
            <p:cNvSpPr/>
            <p:nvPr/>
          </p:nvSpPr>
          <p:spPr>
            <a:xfrm>
              <a:off x="785880" y="1976400"/>
              <a:ext cx="252000" cy="2505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34"/>
            <p:cNvSpPr/>
            <p:nvPr/>
          </p:nvSpPr>
          <p:spPr>
            <a:xfrm>
              <a:off x="840960" y="1976400"/>
              <a:ext cx="2412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35"/>
          <p:cNvGrpSpPr/>
          <p:nvPr/>
        </p:nvGrpSpPr>
        <p:grpSpPr>
          <a:xfrm>
            <a:off x="4886280" y="3827520"/>
            <a:ext cx="297000" cy="260280"/>
            <a:chOff x="4886280" y="3827520"/>
            <a:chExt cx="297000" cy="260280"/>
          </a:xfrm>
        </p:grpSpPr>
        <p:sp>
          <p:nvSpPr>
            <p:cNvPr id="402" name="Oval 36"/>
            <p:cNvSpPr/>
            <p:nvPr/>
          </p:nvSpPr>
          <p:spPr>
            <a:xfrm>
              <a:off x="4886280" y="3827520"/>
              <a:ext cx="252360" cy="2505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37"/>
            <p:cNvSpPr/>
            <p:nvPr/>
          </p:nvSpPr>
          <p:spPr>
            <a:xfrm>
              <a:off x="4941720" y="3827520"/>
              <a:ext cx="2415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8"/>
          <p:cNvGrpSpPr/>
          <p:nvPr/>
        </p:nvGrpSpPr>
        <p:grpSpPr>
          <a:xfrm>
            <a:off x="7054920" y="5892840"/>
            <a:ext cx="296280" cy="260280"/>
            <a:chOff x="7054920" y="5892840"/>
            <a:chExt cx="296280" cy="260280"/>
          </a:xfrm>
        </p:grpSpPr>
        <p:sp>
          <p:nvSpPr>
            <p:cNvPr id="405" name="Oval 39"/>
            <p:cNvSpPr/>
            <p:nvPr/>
          </p:nvSpPr>
          <p:spPr>
            <a:xfrm>
              <a:off x="7054920" y="5892840"/>
              <a:ext cx="252000" cy="250560"/>
            </a:xfrm>
            <a:prstGeom prst="ellipse">
              <a:avLst/>
            </a:prstGeom>
            <a:solidFill>
              <a:srgbClr val="007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40"/>
            <p:cNvSpPr/>
            <p:nvPr/>
          </p:nvSpPr>
          <p:spPr>
            <a:xfrm>
              <a:off x="7110000" y="5892840"/>
              <a:ext cx="2412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Line 41"/>
          <p:cNvSpPr/>
          <p:nvPr/>
        </p:nvSpPr>
        <p:spPr>
          <a:xfrm flipV="1">
            <a:off x="1679400" y="3809880"/>
            <a:ext cx="582840" cy="6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42"/>
          <p:cNvSpPr/>
          <p:nvPr/>
        </p:nvSpPr>
        <p:spPr>
          <a:xfrm flipH="1">
            <a:off x="3743280" y="2685960"/>
            <a:ext cx="146160" cy="56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43"/>
          <p:cNvSpPr/>
          <p:nvPr/>
        </p:nvSpPr>
        <p:spPr>
          <a:xfrm>
            <a:off x="4946760" y="3281400"/>
            <a:ext cx="27000" cy="46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44"/>
          <p:cNvSpPr/>
          <p:nvPr/>
        </p:nvSpPr>
        <p:spPr>
          <a:xfrm flipH="1">
            <a:off x="5303520" y="2671920"/>
            <a:ext cx="436680" cy="11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45"/>
          <p:cNvSpPr/>
          <p:nvPr/>
        </p:nvSpPr>
        <p:spPr>
          <a:xfrm>
            <a:off x="3135240" y="4842000"/>
            <a:ext cx="79560" cy="84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46"/>
          <p:cNvSpPr/>
          <p:nvPr/>
        </p:nvSpPr>
        <p:spPr>
          <a:xfrm>
            <a:off x="3716280" y="5464080"/>
            <a:ext cx="3175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47"/>
          <p:cNvSpPr/>
          <p:nvPr/>
        </p:nvSpPr>
        <p:spPr>
          <a:xfrm>
            <a:off x="3994200" y="5397480"/>
            <a:ext cx="39600" cy="39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2280" y="18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8.1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18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8.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0" descr="48_03InfoProcessingSum-U"/>
          <p:cNvPicPr/>
          <p:nvPr/>
        </p:nvPicPr>
        <p:blipFill>
          <a:blip r:embed="rId1"/>
          <a:stretch/>
        </p:blipFill>
        <p:spPr>
          <a:xfrm>
            <a:off x="1246320" y="1044720"/>
            <a:ext cx="6651360" cy="47671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1712880" y="2324160"/>
            <a:ext cx="87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1666800" y="5081760"/>
            <a:ext cx="873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492360" y="1724040"/>
            <a:ext cx="157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sory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3505320" y="3695760"/>
            <a:ext cx="14554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or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5959440" y="2260440"/>
            <a:ext cx="12175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3287880" y="5092560"/>
            <a:ext cx="210492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 nervou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(P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7"/>
          <p:cNvSpPr/>
          <p:nvPr/>
        </p:nvSpPr>
        <p:spPr>
          <a:xfrm>
            <a:off x="5848200" y="5087880"/>
            <a:ext cx="1708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nervou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(C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8"/>
          <p:cNvSpPr/>
          <p:nvPr/>
        </p:nvSpPr>
        <p:spPr>
          <a:xfrm rot="5400000">
            <a:off x="4204440" y="3796560"/>
            <a:ext cx="206640" cy="2395440"/>
          </a:xfrm>
          <a:custGeom>
            <a:avLst/>
            <a:gdLst>
              <a:gd name="textAreaLeft" fmla="*/ 0 w 206640"/>
              <a:gd name="textAreaRight" fmla="*/ 74520 w 206640"/>
              <a:gd name="textAreaTop" fmla="*/ 62280 h 2395440"/>
              <a:gd name="textAreaBottom" fmla="*/ 2333160 h 23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9"/>
          <p:cNvSpPr/>
          <p:nvPr/>
        </p:nvSpPr>
        <p:spPr>
          <a:xfrm rot="5400000">
            <a:off x="6592320" y="3881520"/>
            <a:ext cx="219240" cy="2251080"/>
          </a:xfrm>
          <a:custGeom>
            <a:avLst/>
            <a:gdLst>
              <a:gd name="textAreaLeft" fmla="*/ 0 w 219240"/>
              <a:gd name="textAreaRight" fmla="*/ 79200 w 219240"/>
              <a:gd name="textAreaTop" fmla="*/ 58680 h 2251080"/>
              <a:gd name="textAreaBottom" fmla="*/ 2192400 h 225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760" y="52560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uron Structure and Func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36476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a neuron’s organelles are i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l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neurons ha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dri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highly branched extensions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cei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 from other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x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ypically a much longer extension that transmit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 to other cells at synap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e-shaped base of an axon is call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xon hil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20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18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8.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7" descr="48_04NeuronStructure-U"/>
          <p:cNvPicPr/>
          <p:nvPr/>
        </p:nvPicPr>
        <p:blipFill>
          <a:blip r:embed="rId1"/>
          <a:stretch/>
        </p:blipFill>
        <p:spPr>
          <a:xfrm>
            <a:off x="297000" y="617400"/>
            <a:ext cx="8548560" cy="5621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336600" y="1663560"/>
            <a:ext cx="873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2592360" y="612720"/>
            <a:ext cx="1071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d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2830680" y="932040"/>
            <a:ext cx="965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2830680" y="1473120"/>
            <a:ext cx="136332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on hil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1495440" y="2279520"/>
            <a:ext cx="595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330120" y="2822400"/>
            <a:ext cx="13366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ynapt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1825560" y="3444840"/>
            <a:ext cx="979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3344760" y="3021120"/>
            <a:ext cx="595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423720" y="3973680"/>
            <a:ext cx="939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a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423720" y="5797440"/>
            <a:ext cx="1878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urotransm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3"/>
          <p:cNvSpPr/>
          <p:nvPr/>
        </p:nvSpPr>
        <p:spPr>
          <a:xfrm>
            <a:off x="4338720" y="4184640"/>
            <a:ext cx="2036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aptic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4"/>
          <p:cNvSpPr/>
          <p:nvPr/>
        </p:nvSpPr>
        <p:spPr>
          <a:xfrm>
            <a:off x="4351320" y="5653080"/>
            <a:ext cx="189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synaptic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"/>
          <p:cNvSpPr/>
          <p:nvPr/>
        </p:nvSpPr>
        <p:spPr>
          <a:xfrm>
            <a:off x="6759720" y="4383000"/>
            <a:ext cx="1044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apt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6"/>
          <p:cNvSpPr/>
          <p:nvPr/>
        </p:nvSpPr>
        <p:spPr>
          <a:xfrm flipH="1">
            <a:off x="1508040" y="754200"/>
            <a:ext cx="104472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7"/>
          <p:cNvSpPr/>
          <p:nvPr/>
        </p:nvSpPr>
        <p:spPr>
          <a:xfrm flipH="1">
            <a:off x="2261880" y="754200"/>
            <a:ext cx="29052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8"/>
          <p:cNvSpPr/>
          <p:nvPr/>
        </p:nvSpPr>
        <p:spPr>
          <a:xfrm>
            <a:off x="1257480" y="1785960"/>
            <a:ext cx="50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9"/>
          <p:cNvSpPr/>
          <p:nvPr/>
        </p:nvSpPr>
        <p:spPr>
          <a:xfrm flipH="1">
            <a:off x="2460600" y="1587600"/>
            <a:ext cx="31752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0"/>
          <p:cNvSpPr/>
          <p:nvPr/>
        </p:nvSpPr>
        <p:spPr>
          <a:xfrm flipH="1">
            <a:off x="1812960" y="2063880"/>
            <a:ext cx="7920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1"/>
          <p:cNvSpPr/>
          <p:nvPr/>
        </p:nvSpPr>
        <p:spPr>
          <a:xfrm>
            <a:off x="2949480" y="3147840"/>
            <a:ext cx="37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2"/>
          <p:cNvSpPr/>
          <p:nvPr/>
        </p:nvSpPr>
        <p:spPr>
          <a:xfrm>
            <a:off x="885960" y="5357880"/>
            <a:ext cx="11880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3"/>
          <p:cNvSpPr/>
          <p:nvPr/>
        </p:nvSpPr>
        <p:spPr>
          <a:xfrm flipH="1">
            <a:off x="3690720" y="4338720"/>
            <a:ext cx="60804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4"/>
          <p:cNvSpPr/>
          <p:nvPr/>
        </p:nvSpPr>
        <p:spPr>
          <a:xfrm flipH="1">
            <a:off x="3901680" y="4338720"/>
            <a:ext cx="39708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5"/>
          <p:cNvSpPr/>
          <p:nvPr/>
        </p:nvSpPr>
        <p:spPr>
          <a:xfrm flipV="1">
            <a:off x="7818480" y="4590720"/>
            <a:ext cx="43668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6"/>
          <p:cNvSpPr/>
          <p:nvPr/>
        </p:nvSpPr>
        <p:spPr>
          <a:xfrm>
            <a:off x="7818480" y="4789440"/>
            <a:ext cx="42228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363680"/>
            <a:ext cx="815328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aptic termin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one axon passes information across the synapse in the form of chemical messenger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rotransmi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ap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junction between an axon and another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is transmitted from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ynaptic ce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 neuron) to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synaptic ce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 neuron, muscle, or gland cel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51" name="Rectangle 4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760" y="609480"/>
            <a:ext cx="8850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on pumps and ion channels establish the resting potential of a neur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899720"/>
            <a:ext cx="8229600" cy="34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ell has a voltage (difference in electrical charge) across its plasma membrane called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brane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ting potenti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membrane potential of a neuron not sending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membrane potential act as signals, transmitting and process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4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57" name="Rectangle 5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84320" y="1176480"/>
            <a:ext cx="853416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ening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 channe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lasma membrane converts chemical potential to electrical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uron at resting potential contains many open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nels and fewer open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nels;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ffuses out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1300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ing buildup of negative charge within the neuron is the major source of membrane potent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5"/>
          <p:cNvGrpSpPr/>
          <p:nvPr/>
        </p:nvGrpSpPr>
        <p:grpSpPr>
          <a:xfrm>
            <a:off x="0" y="6553080"/>
            <a:ext cx="9144000" cy="304920"/>
            <a:chOff x="0" y="6553080"/>
            <a:chExt cx="9144000" cy="304920"/>
          </a:xfrm>
        </p:grpSpPr>
        <p:sp>
          <p:nvSpPr>
            <p:cNvPr id="162" name="Rectangle 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ffb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Date Placeholder 3"/>
            <p:cNvSpPr/>
            <p:nvPr/>
          </p:nvSpPr>
          <p:spPr>
            <a:xfrm>
              <a:off x="152280" y="660384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© 2011 Pearson Education,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47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18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48.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7" descr="48_T01IonConcentrations-U"/>
          <p:cNvPicPr/>
          <p:nvPr/>
        </p:nvPicPr>
        <p:blipFill>
          <a:blip r:embed="rId1"/>
          <a:stretch/>
        </p:blipFill>
        <p:spPr>
          <a:xfrm>
            <a:off x="297000" y="1011240"/>
            <a:ext cx="854856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6T18:35:02Z</dcterms:created>
  <dc:creator>Jerome Burg</dc:creator>
  <dc:description/>
  <dc:language>en-US</dc:language>
  <cp:lastModifiedBy>Leanne</cp:lastModifiedBy>
  <dcterms:modified xsi:type="dcterms:W3CDTF">2018-02-19T23:46:38Z</dcterms:modified>
  <cp:revision>59</cp:revision>
  <dc:subject/>
  <dc:title>PowerPoint Presentation</dc:title>
</cp:coreProperties>
</file>